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431-2CBE-4CAC-B559-22C13996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6D1-E5EA-4A5C-BB1D-6A927DCD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084-6B69-4709-8A8C-34A07A50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AE7-ED3F-4C29-A516-A0422580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66BE-AB21-4A41-9751-04D713FA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A454-0F94-44C9-B5AC-9E103446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5F8F-357E-47D0-B37D-2FF00CCB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FBEE-2C22-4CF6-ACFC-4F37A09A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B5EC-62A4-49AC-99DB-B3D89F5C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8485-1047-4F07-A7BE-AE151A01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CBB8-87F4-4B73-A642-35C260DE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162-DC0D-4D6B-AD23-AC4C7ED6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D785-BB56-4037-9714-CBA4D812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5C81-E326-4FF8-8F4D-A93FA105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5AAD-1A83-4345-B95B-99D7B698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CD1E-CE02-488A-9519-3818B02B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859D-244F-412A-8609-BDDCA9B2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D73-C56E-458B-AF41-F126A67C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1E7-147F-4299-B5DE-64E37689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917-FA58-4C6C-8D5D-F3E72431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539-6597-4DD8-AB56-3B7D5C9A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3EA-BC95-4F6C-822E-775D8683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495-159C-40D4-9198-03E8A29B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569-4F70-45D8-B47A-2F9E5D03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8F9E-A0AE-4F75-B9AB-EE0B010EFCF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099E-556C-469E-BB72-DEF20721324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eometry 1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uesday, September 07, 2010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Lucida Handwriting"/>
              </a:rPr>
              <a:t>Use angle postulat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Lucida Handwriting"/>
              </a:rPr>
              <a:t>Classify angles as acute, obtuse or righ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0040" y="1981080"/>
            <a:ext cx="381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BELL WORK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:  Sketch ray TS and ray TB.  What figure did you draw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Grade HW (1.4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QUIZ FRIDAY-Addition Segment Postulat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ngles and Their Measur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ssignment:  Lesson 1.4, problems 1-37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eometry 1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ursday, September 09, 2010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CTIV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Lucida Handwriting"/>
              </a:rPr>
              <a:t>Use angle postulat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Lucida Handwriting"/>
              </a:rPr>
              <a:t>Classify angles as acute, obtuse or righ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BELL WORK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: Segment AB = 2m-25.  Segment BC = 5m-10.  Segment AC= 21.  Solve for m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QUIZ-Addition Segment Postulat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gment and Angle Bisector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ssignment:   Lesson 1.5, problems 4-24, problems 31-42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urn in NOTEBOOKS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07:40Z</dcterms:created>
  <dc:creator>tstephens</dc:creator>
  <dc:description/>
  <dc:language>en-US</dc:language>
  <cp:lastModifiedBy>tstephens</cp:lastModifiedBy>
  <dcterms:modified xsi:type="dcterms:W3CDTF">2010-09-08T20:34:03Z</dcterms:modified>
  <cp:revision>3</cp:revision>
  <dc:subject/>
  <dc:title>Geometry 1 Tuesday, September 07, 2010</dc:title>
</cp:coreProperties>
</file>